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245-E2D0-4662-B616-F02C9418A7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C37D-C27F-43F5-952E-DF4527D7FD5A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E4A-C8DB-4CF7-BB2C-A897E7F8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796-801C-4A2A-8032-3B9863AE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073-34FB-4C40-8EEF-498DC10A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910-E872-4715-AF0C-0AD590BF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FA5C7-DE5F-4737-BA9E-40CC9566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D9B1-1EB9-4406-8357-2366683F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68224-4208-473B-A659-856A8046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08566-F502-40D8-9BE0-3A7F6C5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083CC-207B-4B37-A436-D20B2E53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F4D4-3755-4047-A902-E7D28A4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A45C7-F775-4BA3-BE13-5D230303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7A2-565E-403E-B2F8-9D2A53F9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EF722-ED82-4323-86C6-8D916EE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F0C6B-729C-46F7-91E7-635FECF2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D682B-2BFA-485D-90C2-DBA351EF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ADF8E-80F4-478B-B1B3-CB1FE8C2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1CF44-C23D-4C26-A7EB-A48DABEE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E84B0-A5B6-497A-9080-36A3DA12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5144-4A2E-48FC-82DE-40C7BBE9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A7F6-CAF3-4BB8-9814-166563BA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5820-8F02-4341-A4F8-1FE9903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0FEC9-42C0-4C25-9234-60BAA94D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0FD-937E-4505-BAF5-CEB220F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BDBB-A513-4D5E-8360-F7F91B34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747B-1B36-49A7-9409-CFF679D0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B222A-26FA-40E4-AA67-375ABD30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75CB-D51D-42E6-8D53-8EB2CE4E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76B30-C3D4-4774-9D3E-D8653C1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C6C2-FB2E-4DFD-B402-FB4A014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634CF-A21A-45C4-A2D2-12B8657A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BDC-1546-4C54-855E-E941DD01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D5C-A54F-4ECE-9FF2-5F49358A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8EE-D64F-415B-BFD6-F6932DFE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432-426D-428C-B5F5-B7023C3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916-2797-4B69-A8BB-3345A90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679-2B31-4DB6-993B-0EB2CAAB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6E34-31CD-4D5E-9F6F-DCF9D5E82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9B53-B054-425D-8032-DC67187A1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C01-ED77-42BF-A224-C8322596813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.E Campagne LAL 15 Mars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1BD7-1677-4E1B-916A-6E8477A8564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395280" y="4135320"/>
            <a:ext cx="3213000" cy="19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03120"/>
            <a:ext cx="814392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300"/>
                </a:solidFill>
                <a:latin typeface="Tahoma"/>
              </a:rPr>
              <a:t>En cou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-Cluster at Nanç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Rectangle 2"/>
          <p:cNvGrpSpPr/>
          <p:nvPr/>
        </p:nvGrpSpPr>
        <p:grpSpPr>
          <a:xfrm>
            <a:off x="268200" y="1047600"/>
            <a:ext cx="8302680" cy="3164040"/>
            <a:chOff x="268200" y="1047600"/>
            <a:chExt cx="8302680" cy="3164040"/>
          </a:xfrm>
        </p:grpSpPr>
        <p:pic>
          <p:nvPicPr>
            <p:cNvPr id="136" name="Rectangle 2" descr=""/>
            <p:cNvPicPr/>
            <p:nvPr/>
          </p:nvPicPr>
          <p:blipFill>
            <a:blip r:embed="rId2"/>
            <a:stretch/>
          </p:blipFill>
          <p:spPr>
            <a:xfrm>
              <a:off x="268200" y="1047600"/>
              <a:ext cx="83026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95280" y="1268280"/>
              <a:ext cx="790272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2 polarisations ortho. au foyer du NR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Tahoma"/>
                </a:rPr>
                <a:t>Observations [1250, 1500]MHz avec l’électronique BAORadio sur de longues périodes: Avril 11- Dec 11, &gt;140To @ CCIN2P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Nettoyage RFI (*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Evolution des galaxies d’amas, détermination de la fraction de gaz H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465120" indent="-342720">
                <a:lnSpc>
                  <a:spcPct val="100000"/>
                </a:lnSpc>
                <a:spcBef>
                  <a:spcPts val="499"/>
                </a:spcBef>
                <a:buClr>
                  <a:srgbClr val="ffcc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ahoma"/>
                </a:rPr>
                <a:t>Cartographie HI large bande (corrélation avec les observations optiques z ~ 0.3 )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ZoneTexte 3"/>
          <p:cNvSpPr/>
          <p:nvPr/>
        </p:nvSpPr>
        <p:spPr>
          <a:xfrm>
            <a:off x="62280" y="6093000"/>
            <a:ext cx="419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nalyse essentiellement faite au LAL: A. S. Torrento &amp; J.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(*): Radio Frequency 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3"/>
          <a:stretch/>
        </p:blipFill>
        <p:spPr>
          <a:xfrm>
            <a:off x="3708360" y="4149720"/>
            <a:ext cx="4680000" cy="1484280"/>
          </a:xfrm>
          <a:prstGeom prst="rect">
            <a:avLst/>
          </a:prstGeom>
          <a:ln w="0">
            <a:noFill/>
          </a:ln>
        </p:spPr>
      </p:pic>
      <p:sp>
        <p:nvSpPr>
          <p:cNvPr id="140" name="Espace réservé du numéro de diapositiv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A25E-1E3C-4E94-B2C0-85F38FEF3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Espace réservé du pied de pag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541600" y="1916280"/>
            <a:ext cx="2354400" cy="2339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ahoma"/>
              </a:rPr>
              <a:t>Evolution de la sensibilit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4920" y="191628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45" name="ZoneTexte 7"/>
          <p:cNvSpPr/>
          <p:nvPr/>
        </p:nvSpPr>
        <p:spPr>
          <a:xfrm>
            <a:off x="5076720" y="1611360"/>
            <a:ext cx="40672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Cycle = « ON source » et « OFF source 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nsemble des données des 3 amas visés.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500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cycles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~ 50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</a:rPr>
              <a:t>soit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4</a:t>
            </a:r>
            <a:r>
              <a:rPr b="1" lang="fr-FR" sz="16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 « ON source »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effectif (</a:t>
            </a:r>
            <a:r>
              <a:rPr b="0" lang="fr-FR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~30% DAQ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ZoneTexte 30"/>
          <p:cNvSpPr/>
          <p:nvPr/>
        </p:nvSpPr>
        <p:spPr>
          <a:xfrm>
            <a:off x="-56880" y="5303880"/>
            <a:ext cx="530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dentification de 2 phénomènes para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interférence spéculaire (miroir secondaire – cornet): 514k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  <a:ea typeface="Arial"/>
              </a:rPr>
              <a:t>On peut les réduire (futurs test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autre d’origine « inconnue » ~ 5MHz sur Ch 0 (à suivre..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Connecteur droit 35"/>
          <p:cNvSpPr/>
          <p:nvPr/>
        </p:nvSpPr>
        <p:spPr>
          <a:xfrm>
            <a:off x="0" y="5157720"/>
            <a:ext cx="5076720" cy="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283400" y="4735440"/>
            <a:ext cx="35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 Jy = 10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6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Wm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2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fr-FR" sz="1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(Cas A @ 1420MHz  2300J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Espace réservé du numéro de diapositiv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40A-4F47-40EA-A305-520A069E31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Espace réservé du pied de page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ZoneTexte 17"/>
          <p:cNvSpPr/>
          <p:nvPr/>
        </p:nvSpPr>
        <p:spPr>
          <a:xfrm>
            <a:off x="415800" y="37162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ZoneTexte 18"/>
          <p:cNvSpPr/>
          <p:nvPr/>
        </p:nvSpPr>
        <p:spPr>
          <a:xfrm>
            <a:off x="2704680" y="370836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Tahoma"/>
              </a:rPr>
              <a:t>Zone non-protégé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ZoneTexte 19"/>
          <p:cNvSpPr/>
          <p:nvPr/>
        </p:nvSpPr>
        <p:spPr>
          <a:xfrm>
            <a:off x="-11160" y="4292640"/>
            <a:ext cx="52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Sensibilité identique dans les 2 bandes de fréq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5148360" y="357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bande non protégée 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onnecteur droit 22"/>
          <p:cNvSpPr/>
          <p:nvPr/>
        </p:nvSpPr>
        <p:spPr>
          <a:xfrm>
            <a:off x="5076720" y="3573360"/>
            <a:ext cx="0" cy="328464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5097600" y="4435560"/>
            <a:ext cx="40114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ZoneTexte 23"/>
          <p:cNvSpPr/>
          <p:nvPr/>
        </p:nvSpPr>
        <p:spPr>
          <a:xfrm>
            <a:off x="47664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400-142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24"/>
          <p:cNvSpPr/>
          <p:nvPr/>
        </p:nvSpPr>
        <p:spPr>
          <a:xfrm>
            <a:off x="2997000" y="350028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70c0"/>
                </a:solidFill>
                <a:latin typeface="Tahoma"/>
              </a:rPr>
              <a:t>1350-1370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necteur droit 25"/>
          <p:cNvSpPr/>
          <p:nvPr/>
        </p:nvSpPr>
        <p:spPr>
          <a:xfrm>
            <a:off x="395280" y="3213000"/>
            <a:ext cx="4321080" cy="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ZoneTexte 26"/>
          <p:cNvSpPr/>
          <p:nvPr/>
        </p:nvSpPr>
        <p:spPr>
          <a:xfrm>
            <a:off x="689760" y="2997360"/>
            <a:ext cx="70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Tahoma"/>
              </a:rPr>
              <a:t>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Connecteur droit avec flèche 28"/>
          <p:cNvCxnSpPr/>
          <p:nvPr/>
        </p:nvCxnSpPr>
        <p:spPr>
          <a:xfrm>
            <a:off x="5651280" y="6163920"/>
            <a:ext cx="316908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ZoneTexte 29"/>
          <p:cNvSpPr/>
          <p:nvPr/>
        </p:nvSpPr>
        <p:spPr>
          <a:xfrm>
            <a:off x="5522040" y="623736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195960" y="2349360"/>
            <a:ext cx="2840040" cy="2716200"/>
          </a:xfrm>
          <a:prstGeom prst="rect">
            <a:avLst/>
          </a:prstGeom>
          <a:ln w="0">
            <a:noFill/>
          </a:ln>
        </p:spPr>
      </p:pic>
      <p:sp>
        <p:nvSpPr>
          <p:cNvPr id="165" name="ZoneTexte 21"/>
          <p:cNvSpPr/>
          <p:nvPr/>
        </p:nvSpPr>
        <p:spPr>
          <a:xfrm>
            <a:off x="6494400" y="2432160"/>
            <a:ext cx="2529360" cy="48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Galaxie HI (UGC4358) en ON-OF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400" spc="-1" strike="noStrike">
                <a:solidFill>
                  <a:srgbClr val="ffff00"/>
                </a:solidFill>
                <a:latin typeface="Tahoma"/>
              </a:rPr>
              <a:t>30 mJy.M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326880" y="20520"/>
            <a:ext cx="8637840" cy="744480"/>
          </a:xfrm>
          <a:prstGeom prst="rect">
            <a:avLst/>
          </a:prstGeom>
          <a:ln w="0">
            <a:noFill/>
          </a:ln>
        </p:spPr>
      </p:pic>
      <p:cxnSp>
        <p:nvCxnSpPr>
          <p:cNvPr id="167" name="Connecteur droit avec flèche 6"/>
          <p:cNvCxnSpPr/>
          <p:nvPr/>
        </p:nvCxnSpPr>
        <p:spPr>
          <a:xfrm>
            <a:off x="250560" y="115560"/>
            <a:ext cx="1080" cy="64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ZoneTexte 7"/>
          <p:cNvSpPr/>
          <p:nvPr/>
        </p:nvSpPr>
        <p:spPr>
          <a:xfrm rot="16200000">
            <a:off x="-232920" y="29376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Connecteur droit avec flèche 8"/>
          <p:cNvCxnSpPr/>
          <p:nvPr/>
        </p:nvCxnSpPr>
        <p:spPr>
          <a:xfrm>
            <a:off x="755280" y="124920"/>
            <a:ext cx="705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ZoneTexte 11"/>
          <p:cNvSpPr/>
          <p:nvPr/>
        </p:nvSpPr>
        <p:spPr>
          <a:xfrm>
            <a:off x="7949160" y="-270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req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302724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ZoneTexte 19"/>
          <p:cNvSpPr/>
          <p:nvPr/>
        </p:nvSpPr>
        <p:spPr>
          <a:xfrm>
            <a:off x="3990600" y="1916280"/>
            <a:ext cx="20185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Galaxie HI (NGC438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Raie ~ 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185 mJy.M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6156360" y="189000"/>
            <a:ext cx="671400" cy="753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174" name="Groupe 27"/>
          <p:cNvGrpSpPr/>
          <p:nvPr/>
        </p:nvGrpSpPr>
        <p:grpSpPr>
          <a:xfrm>
            <a:off x="117360" y="3789360"/>
            <a:ext cx="3733920" cy="2854440"/>
            <a:chOff x="117360" y="3789360"/>
            <a:chExt cx="3733920" cy="2854440"/>
          </a:xfrm>
        </p:grpSpPr>
        <p:pic>
          <p:nvPicPr>
            <p:cNvPr id="175" name="Picture 18" descr="Image 10"/>
            <p:cNvPicPr/>
            <p:nvPr/>
          </p:nvPicPr>
          <p:blipFill>
            <a:blip r:embed="rId5"/>
            <a:stretch/>
          </p:blipFill>
          <p:spPr>
            <a:xfrm>
              <a:off x="117360" y="3789360"/>
              <a:ext cx="3733920" cy="2854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Line 19"/>
            <p:cNvSpPr/>
            <p:nvPr/>
          </p:nvSpPr>
          <p:spPr>
            <a:xfrm flipV="1">
              <a:off x="159696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20"/>
            <p:cNvSpPr/>
            <p:nvPr/>
          </p:nvSpPr>
          <p:spPr>
            <a:xfrm flipH="1" flipV="1">
              <a:off x="1990440" y="406404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H="1" flipV="1">
              <a:off x="2390400" y="4057560"/>
              <a:ext cx="6120" cy="2260800"/>
            </a:xfrm>
            <a:prstGeom prst="line">
              <a:avLst/>
            </a:prstGeom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34920" y="765000"/>
            <a:ext cx="338940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ZoneTexte 3"/>
          <p:cNvSpPr/>
          <p:nvPr/>
        </p:nvSpPr>
        <p:spPr>
          <a:xfrm>
            <a:off x="2195640" y="981000"/>
            <a:ext cx="4176720" cy="550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Figure de diffraction du RT au passage d’une radio source de calibration (continuum ~</a:t>
            </a:r>
            <a:r>
              <a:rPr b="1" lang="fr-FR" sz="1600" spc="-1" strike="noStrike">
                <a:solidFill>
                  <a:srgbClr val="ffff00"/>
                </a:solidFill>
                <a:latin typeface="Tahoma"/>
              </a:rPr>
              <a:t>20 Jy</a:t>
            </a: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ZoneTexte 32"/>
          <p:cNvSpPr/>
          <p:nvPr/>
        </p:nvSpPr>
        <p:spPr>
          <a:xfrm>
            <a:off x="3238920" y="5877000"/>
            <a:ext cx="5493600" cy="535680"/>
          </a:xfrm>
          <a:prstGeom prst="rect">
            <a:avLst/>
          </a:prstGeom>
          <a:solidFill>
            <a:srgbClr val="0000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as de raies détectables, 2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ahoma"/>
              </a:rPr>
              <a:t>h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ON eff., avec </a:t>
            </a:r>
            <a:r>
              <a:rPr b="0" lang="fr-FR" sz="18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~ 1mJ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00"/>
                </a:solidFill>
                <a:latin typeface="Tahoma"/>
              </a:rPr>
              <a:t>Limite en cours…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ZoneTexte 33"/>
          <p:cNvSpPr/>
          <p:nvPr/>
        </p:nvSpPr>
        <p:spPr>
          <a:xfrm>
            <a:off x="2559600" y="256536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ZoneTexte 34"/>
          <p:cNvSpPr/>
          <p:nvPr/>
        </p:nvSpPr>
        <p:spPr>
          <a:xfrm>
            <a:off x="5658840" y="399564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4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ZoneTexte 35"/>
          <p:cNvSpPr/>
          <p:nvPr/>
        </p:nvSpPr>
        <p:spPr>
          <a:xfrm>
            <a:off x="8220240" y="4356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0199"/>
                </a:solidFill>
                <a:latin typeface="Tahoma"/>
              </a:rPr>
              <a:t>50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ZoneTexte 36"/>
          <p:cNvSpPr/>
          <p:nvPr/>
        </p:nvSpPr>
        <p:spPr>
          <a:xfrm>
            <a:off x="6209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ZoneTexte 37"/>
          <p:cNvSpPr/>
          <p:nvPr/>
        </p:nvSpPr>
        <p:spPr>
          <a:xfrm>
            <a:off x="8513280" y="479736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10199"/>
                </a:solidFill>
                <a:latin typeface="Tahoma"/>
              </a:rPr>
              <a:t>1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ZoneTexte 39"/>
          <p:cNvSpPr/>
          <p:nvPr/>
        </p:nvSpPr>
        <p:spPr>
          <a:xfrm>
            <a:off x="7891200" y="2924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Juil.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ZoneTexte 40"/>
          <p:cNvSpPr/>
          <p:nvPr/>
        </p:nvSpPr>
        <p:spPr>
          <a:xfrm>
            <a:off x="2189880" y="155736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ZoneTexte 41"/>
          <p:cNvSpPr/>
          <p:nvPr/>
        </p:nvSpPr>
        <p:spPr>
          <a:xfrm>
            <a:off x="5069520" y="24922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Oct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ZoneTexte 42"/>
          <p:cNvSpPr/>
          <p:nvPr/>
        </p:nvSpPr>
        <p:spPr>
          <a:xfrm>
            <a:off x="2169000" y="4149720"/>
            <a:ext cx="1380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0199"/>
                </a:solidFill>
                <a:latin typeface="Tahoma"/>
              </a:rPr>
              <a:t>Avr.-Dec. 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1"/>
          <p:cNvSpPr/>
          <p:nvPr/>
        </p:nvSpPr>
        <p:spPr>
          <a:xfrm>
            <a:off x="5435640" y="1700280"/>
            <a:ext cx="3313080" cy="46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2" descr="RadarZoom"/>
          <p:cNvPicPr/>
          <p:nvPr/>
        </p:nvPicPr>
        <p:blipFill>
          <a:blip r:embed="rId1"/>
          <a:stretch/>
        </p:blipFill>
        <p:spPr>
          <a:xfrm>
            <a:off x="900000" y="3429000"/>
            <a:ext cx="3959280" cy="30369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1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</a:t>
            </a:r>
            <a:r>
              <a:rPr b="0" lang="fr-FR" sz="37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limination des RFI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Groupe 28"/>
          <p:cNvGrpSpPr/>
          <p:nvPr/>
        </p:nvGrpSpPr>
        <p:grpSpPr>
          <a:xfrm>
            <a:off x="86760" y="1219320"/>
            <a:ext cx="4772520" cy="2230200"/>
            <a:chOff x="86760" y="1219320"/>
            <a:chExt cx="4772520" cy="2230200"/>
          </a:xfrm>
        </p:grpSpPr>
        <p:pic>
          <p:nvPicPr>
            <p:cNvPr id="195" name="Picture 23" descr="Radar"/>
            <p:cNvPicPr/>
            <p:nvPr/>
          </p:nvPicPr>
          <p:blipFill>
            <a:blip r:embed="rId2"/>
            <a:stretch/>
          </p:blipFill>
          <p:spPr>
            <a:xfrm>
              <a:off x="897840" y="1523880"/>
              <a:ext cx="396144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Oval 24"/>
            <p:cNvSpPr/>
            <p:nvPr/>
          </p:nvSpPr>
          <p:spPr>
            <a:xfrm>
              <a:off x="4391280" y="2111400"/>
              <a:ext cx="456840" cy="533160"/>
            </a:xfrm>
            <a:prstGeom prst="ellipse">
              <a:avLst/>
            </a:prstGeom>
            <a:noFill/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 flipH="1">
              <a:off x="3851280" y="2590920"/>
              <a:ext cx="626760" cy="8586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8" name="Connecteur droit avec flèche 24"/>
            <p:cNvCxnSpPr/>
            <p:nvPr/>
          </p:nvCxnSpPr>
          <p:spPr>
            <a:xfrm>
              <a:off x="779040" y="1773000"/>
              <a:ext cx="1080" cy="115164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Text Box 34"/>
            <p:cNvSpPr/>
            <p:nvPr/>
          </p:nvSpPr>
          <p:spPr>
            <a:xfrm>
              <a:off x="95400" y="2255760"/>
              <a:ext cx="772920" cy="1828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ahoma"/>
                </a:rPr>
                <a:t>1350 MHz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ZoneTexte 25"/>
            <p:cNvSpPr/>
            <p:nvPr/>
          </p:nvSpPr>
          <p:spPr>
            <a:xfrm>
              <a:off x="86760" y="262764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Freq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Connecteur droit avec flèche 26"/>
            <p:cNvCxnSpPr/>
            <p:nvPr/>
          </p:nvCxnSpPr>
          <p:spPr>
            <a:xfrm flipV="1">
              <a:off x="779040" y="1772640"/>
              <a:ext cx="115164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ZoneTexte 27"/>
            <p:cNvSpPr/>
            <p:nvPr/>
          </p:nvSpPr>
          <p:spPr>
            <a:xfrm>
              <a:off x="1685880" y="177264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45560" y="1219320"/>
              <a:ext cx="402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ahoma"/>
                </a:rPr>
                <a:t>Radars Roissy et bruit électr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5"/>
            <p:cNvSpPr/>
            <p:nvPr/>
          </p:nvSpPr>
          <p:spPr>
            <a:xfrm>
              <a:off x="9738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6"/>
            <p:cNvSpPr/>
            <p:nvPr/>
          </p:nvSpPr>
          <p:spPr>
            <a:xfrm>
              <a:off x="16596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27"/>
            <p:cNvSpPr/>
            <p:nvPr/>
          </p:nvSpPr>
          <p:spPr>
            <a:xfrm>
              <a:off x="2345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28"/>
            <p:cNvSpPr/>
            <p:nvPr/>
          </p:nvSpPr>
          <p:spPr>
            <a:xfrm>
              <a:off x="37929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310716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4478400" y="2971800"/>
              <a:ext cx="10944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4619880" y="2971800"/>
              <a:ext cx="234720" cy="152640"/>
            </a:xfrm>
            <a:prstGeom prst="rect">
              <a:avLst/>
            </a:prstGeom>
            <a:solidFill>
              <a:srgbClr val="010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ffff"/>
                  </a:solidFill>
                  <a:latin typeface="Tahoma"/>
                </a:rPr>
                <a:t>sec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Espace réservé du numéro de diapositive 29"/>
          <p:cNvSpPr/>
          <p:nvPr/>
        </p:nvSpPr>
        <p:spPr>
          <a:xfrm>
            <a:off x="6843600" y="-2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BC9B-FCA7-4F24-9B00-0B628D72F155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Espace réservé du pied de page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Espace réservé du pied de page 7"/>
          <p:cNvSpPr/>
          <p:nvPr/>
        </p:nvSpPr>
        <p:spPr>
          <a:xfrm>
            <a:off x="2916360" y="0"/>
            <a:ext cx="28954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J.E Campagne LAL 15 Mars 201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0"/>
          <p:cNvSpPr/>
          <p:nvPr/>
        </p:nvSpPr>
        <p:spPr>
          <a:xfrm>
            <a:off x="5076720" y="907920"/>
            <a:ext cx="38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Résol. 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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 = 30kHz (sur 250MHz) et 1 trame toutes les 100</a:t>
            </a:r>
            <a:r>
              <a:rPr b="0" lang="fr-FR" sz="1800" spc="-1" strike="noStrike">
                <a:solidFill>
                  <a:srgbClr val="ffc000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ffc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e 41"/>
          <p:cNvGrpSpPr/>
          <p:nvPr/>
        </p:nvGrpSpPr>
        <p:grpSpPr>
          <a:xfrm>
            <a:off x="5580000" y="1700280"/>
            <a:ext cx="2952720" cy="2233440"/>
            <a:chOff x="5580000" y="1700280"/>
            <a:chExt cx="2952720" cy="2233440"/>
          </a:xfrm>
        </p:grpSpPr>
        <p:pic>
          <p:nvPicPr>
            <p:cNvPr id="216" name="Picture 2" descr=""/>
            <p:cNvPicPr/>
            <p:nvPr/>
          </p:nvPicPr>
          <p:blipFill>
            <a:blip r:embed="rId3"/>
            <a:stretch/>
          </p:blipFill>
          <p:spPr>
            <a:xfrm>
              <a:off x="5580000" y="1772280"/>
              <a:ext cx="2952720" cy="216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ZoneTexte 39"/>
            <p:cNvSpPr/>
            <p:nvPr/>
          </p:nvSpPr>
          <p:spPr>
            <a:xfrm>
              <a:off x="6049440" y="1700280"/>
              <a:ext cx="1515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Sans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Groupe 42"/>
          <p:cNvGrpSpPr/>
          <p:nvPr/>
        </p:nvGrpSpPr>
        <p:grpSpPr>
          <a:xfrm>
            <a:off x="5580000" y="4076640"/>
            <a:ext cx="3024360" cy="2232000"/>
            <a:chOff x="5580000" y="4076640"/>
            <a:chExt cx="3024360" cy="2232000"/>
          </a:xfrm>
        </p:grpSpPr>
        <p:pic>
          <p:nvPicPr>
            <p:cNvPr id="219" name="Picture 2" descr=""/>
            <p:cNvPicPr/>
            <p:nvPr/>
          </p:nvPicPr>
          <p:blipFill>
            <a:blip r:embed="rId4"/>
            <a:stretch/>
          </p:blipFill>
          <p:spPr>
            <a:xfrm>
              <a:off x="5580000" y="4148640"/>
              <a:ext cx="3024360" cy="21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ZoneTexte 37"/>
            <p:cNvSpPr/>
            <p:nvPr/>
          </p:nvSpPr>
          <p:spPr>
            <a:xfrm>
              <a:off x="6192360" y="4076640"/>
              <a:ext cx="1512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10199"/>
                  </a:solidFill>
                  <a:latin typeface="Tahoma"/>
                </a:rPr>
                <a:t>Avec filt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ZoneTexte 43"/>
          <p:cNvSpPr/>
          <p:nvPr/>
        </p:nvSpPr>
        <p:spPr>
          <a:xfrm>
            <a:off x="7124040" y="6381720"/>
            <a:ext cx="1768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Tahoma"/>
              </a:rPr>
              <a:t>Filtrage médian sur 0.6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16000" y="2421000"/>
            <a:ext cx="8893080" cy="3670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"/>
          <p:cNvSpPr/>
          <p:nvPr/>
        </p:nvSpPr>
        <p:spPr>
          <a:xfrm>
            <a:off x="1187280" y="1341360"/>
            <a:ext cx="7272360" cy="94716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Ex. de stabilité du système dans une </a:t>
            </a: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bande non protégé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près nettoy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Connecteur droit avec flèche 7"/>
          <p:cNvCxnSpPr/>
          <p:nvPr/>
        </p:nvCxnSpPr>
        <p:spPr>
          <a:xfrm flipV="1">
            <a:off x="1476000" y="6163920"/>
            <a:ext cx="7344360" cy="21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25" name="ZoneTexte 29"/>
          <p:cNvSpPr/>
          <p:nvPr/>
        </p:nvSpPr>
        <p:spPr>
          <a:xfrm>
            <a:off x="3266280" y="630864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is sur une période de 6 mo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9:20:08Z</dcterms:created>
  <dc:creator>J.E CAMPAGNE</dc:creator>
  <dc:description/>
  <dc:language>en-US</dc:language>
  <cp:lastModifiedBy>J.E CAMPAGNE</cp:lastModifiedBy>
  <dcterms:modified xsi:type="dcterms:W3CDTF">2012-03-29T07:18:50Z</dcterms:modified>
  <cp:revision>5</cp:revision>
  <dc:subject/>
  <dc:title>Diapositive 1</dc:title>
</cp:coreProperties>
</file>